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92EA-2C35-4391-88F2-6DCC487E0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510D-532F-4632-B4EE-E35B346FF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nsolidate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10 </a:t>
            </a: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CFD1-ED37-4E35-BA79-DEA1D5089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066D-A26A-424A-8416-B1F453E47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experience intelligent actions and consider how these support shared leadershi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EE31B-6571-4CED-8AB2-45CAEB259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2A68-E468-4BA4-B3AC-FEA2D0E9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49B94-52E5-42E7-AC51-7AFC113F2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1DC33-4A2F-43EE-8A40-4D853587A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7D48B-AC8A-4A4F-A026-24B211D3F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49B41-69C6-48F1-B3E8-C941A6F40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7C09E-C9CF-47FF-8073-A6C323DCA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5FAE7-EA4C-453A-9554-4B4621179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6FF2C-D52B-4C99-89C8-14F5EC25E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D23BA-C2F6-434D-920A-73CBBEF6B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95F72-DB90-4226-AAFC-B7F9F9DD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A77B-BB89-4ED3-8747-806A2868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DCAC7-D931-45F5-A005-C44952B5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AA962-C7FB-4638-B090-430553DD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B4BAB-0D42-4660-A3D3-3D9A44533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64D9B-2C0F-4F5E-AB5A-C7E059C94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F99FF-C63B-453A-A4E8-14AC4689C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610B-AA3A-4273-8C1E-6C148893A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B2B0-FB35-4D8F-9C0C-BC3146FB6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D3004-62C3-4C5C-A656-32D9A277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E5FD-29C5-423D-86AC-88944CC65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6BFD-DDBE-4707-A267-BB2633AF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9B02-023F-434D-9FCE-D0C73602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DE67-6A3E-4E4C-810E-C3E244EA7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9FA6-EDCF-4B26-BFA3-BA245F3ED2A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D9F8-17E4-47E9-AB86-F46E012FB6D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mailto:connie.quadrini@ycdsb.ca" TargetMode="External"/><Relationship Id="rId2" Type="http://schemas.openxmlformats.org/officeDocument/2006/relationships/hyperlink" Target="mailto:shelley.yearley@tldsb.on.ca"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8000" y="2895120"/>
            <a:ext cx="4608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Next Steps</a:t>
            </a:r>
            <a:endParaRPr b="0" lang="en-US" sz="4400" spc="-1" strike="noStrike">
              <a:solidFill>
                <a:srgbClr val="0d469b"/>
              </a:solidFill>
              <a:latin typeface="Arial"/>
            </a:endParaRPr>
          </a:p>
        </p:txBody>
      </p:sp>
      <p:sp>
        <p:nvSpPr>
          <p:cNvPr id="101" name="PlaceHolder 2"/>
          <p:cNvSpPr>
            <a:spLocks noGrp="1"/>
          </p:cNvSpPr>
          <p:nvPr>
            <p:ph/>
          </p:nvPr>
        </p:nvSpPr>
        <p:spPr>
          <a:xfrm>
            <a:off x="3348000" y="5010120"/>
            <a:ext cx="4608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wing Leadership</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fessional learning trajectories grow leadership and support the achievement of short and long term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91920"/>
            <a:ext cx="822960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wing Leadership</a:t>
            </a:r>
            <a:endParaRPr b="0" lang="en-US" sz="4400" spc="-1" strike="noStrike">
              <a:solidFill>
                <a:srgbClr val="0d469b"/>
              </a:solidFill>
              <a:latin typeface="Arial"/>
            </a:endParaRPr>
          </a:p>
        </p:txBody>
      </p:sp>
      <p:sp>
        <p:nvSpPr>
          <p:cNvPr id="106" name="PlaceHolder 2"/>
          <p:cNvSpPr>
            <a:spLocks noGrp="1"/>
          </p:cNvSpPr>
          <p:nvPr>
            <p:ph/>
          </p:nvPr>
        </p:nvSpPr>
        <p:spPr>
          <a:xfrm>
            <a:off x="457200" y="1904760"/>
            <a:ext cx="822960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n organizer:  Within your board</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orking well</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challenges</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blem Solving:  How can we resolve this?  How do these suggestions link to leadership frameworks seen</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ass Model</a:t>
            </a:r>
            <a:endParaRPr b="0" lang="en-US" sz="4400" spc="-1" strike="noStrike">
              <a:solidFill>
                <a:srgbClr val="0d469b"/>
              </a:solidFill>
              <a:latin typeface="Arial"/>
            </a:endParaRPr>
          </a:p>
        </p:txBody>
      </p:sp>
      <p:pic>
        <p:nvPicPr>
          <p:cNvPr id="108" name="Picture 2" descr=""/>
          <p:cNvPicPr/>
          <p:nvPr/>
        </p:nvPicPr>
        <p:blipFill>
          <a:blip r:embed="rId1"/>
          <a:stretch/>
        </p:blipFill>
        <p:spPr>
          <a:xfrm>
            <a:off x="457200" y="2084400"/>
            <a:ext cx="8229600" cy="436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75920"/>
            <a:ext cx="8229600" cy="86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eedback</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mplete the feedback form provided</a:t>
            </a:r>
            <a:endParaRPr b="0" lang="en-US" sz="2400" spc="-1" strike="noStrike">
              <a:solidFill>
                <a:srgbClr val="000000"/>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ie Quadrini</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onnie.quadrini@ycdsb.ca</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shelley.yearley@tldsb.on.c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2:03Z</dcterms:modified>
  <cp:revision>134</cp:revision>
  <dc:subject/>
  <dc:title>Slide 1</dc:title>
</cp:coreProperties>
</file>